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LASER.WAV" ContentType="audio/x-wav"/>
  <Override PartName="/ppt/media/image24.wmf" ContentType="image/x-wmf"/>
  <Override PartName="/ppt/media/hzipup01.wav" ContentType="audio/x-wav"/>
  <Override PartName="/ppt/media/image1.wmf" ContentType="image/x-wmf"/>
  <Override PartName="/ppt/media/image31.wmf" ContentType="image/x-wmf"/>
  <Override PartName="/ppt/media/image25.wmf" ContentType="image/x-wmf"/>
  <Override PartName="/ppt/media/gunshot.wav" ContentType="audio/x-wav"/>
  <Override PartName="/ppt/media/image2.wmf" ContentType="image/x-wmf"/>
  <Override PartName="/ppt/media/image32.wmf" ContentType="image/x-wmf"/>
  <Override PartName="/ppt/media/chimes.wav" ContentType="audio/x-wav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41.wmf" ContentType="image/x-wmf"/>
  <Override PartName="/ppt/media/image30.wmf" ContentType="image/x-wmf"/>
  <Override PartName="/ppt/media/camera.wav" ContentType="audio/x-wav"/>
  <Override PartName="/ppt/media/image40.gif" ContentType="image/gif"/>
  <Override PartName="/ppt/media/image43.wmf" ContentType="image/x-wmf"/>
  <Override PartName="/ppt/media/image44.wmf" ContentType="image/x-wmf"/>
  <Override PartName="/ppt/media/image45.wmf" ContentType="image/x-wmf"/>
  <Override PartName="/ppt/media/carbrake.wav" ContentType="audio/x-wav"/>
  <Override PartName="/ppt/media/image42.wmf" ContentType="image/x-wmf"/>
  <Override PartName="/ppt/media/cashreg.wav" ContentType="audio/x-wav"/>
  <Override PartName="/ppt/media/ricochet.wav" ContentType="audio/x-wav"/>
  <Override PartName="/ppt/media/image46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8.wmf" ContentType="image/x-wmf"/>
  <Override PartName="/ppt/media/image38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5.wmf" ContentType="image/x-wmf"/>
  <Override PartName="/ppt/media/image35.wmf" ContentType="image/x-wmf"/>
  <Override PartName="/ppt/media/laser.wav" ContentType="audio/x-wav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WHOOSH.WAV" ContentType="audio/x-wav"/>
  <Override PartName="/ppt/media/image2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C9C9-D64C-4A33-9138-8E366808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1DD8-F0BA-47F5-97AA-0FFE6748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04F5-FD1B-42B9-8B2F-3EF988D3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3EC8-02DC-4BA2-9D77-2ACE9021E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FF32-73F3-445E-9257-E575B6B0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C424-C840-4757-9FAD-6C3B594A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A13E-4F6F-4351-80E6-CF1D7819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7F8C-E4A4-42E5-87DC-305CF594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CD95-A02E-446A-88A6-78E5D86B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E491-94C2-4D9B-B90A-FFA864E3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1083-41AA-4187-A358-013CB663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7AE7-BC0C-426F-95FC-2AD1B00F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6EA6-71F8-4BF5-8F12-8E4AA97C5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.wmf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5.wmf"/><Relationship Id="rId2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3.wmf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1.wmf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5.wmf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5.wmf"/><Relationship Id="rId2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4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1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1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9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45.wmf"/><Relationship Id="rId24" Type="http://schemas.openxmlformats.org/officeDocument/2006/relationships/audio" Target="../media/camera.wav"/><Relationship Id="rId25" Type="http://schemas.openxmlformats.org/officeDocument/2006/relationships/audio" Target="../media/chimes.wav"/><Relationship Id="rId26" Type="http://schemas.openxmlformats.org/officeDocument/2006/relationships/audio" Target="../media/WHOOSH.WAV"/><Relationship Id="rId27" Type="http://schemas.openxmlformats.org/officeDocument/2006/relationships/audio" Target="../media/WHOOSH.WAV"/><Relationship Id="rId28" Type="http://schemas.openxmlformats.org/officeDocument/2006/relationships/audio" Target="../media/LASER.WAV"/><Relationship Id="rId29" Type="http://schemas.openxmlformats.org/officeDocument/2006/relationships/audio" Target="../media/WHOOSH.WAV"/><Relationship Id="rId30" Type="http://schemas.openxmlformats.org/officeDocument/2006/relationships/audio" Target="../media/LASER.WAV"/><Relationship Id="rId31" Type="http://schemas.openxmlformats.org/officeDocument/2006/relationships/audio" Target="../media/WHOOSH.WAV"/><Relationship Id="rId32" Type="http://schemas.openxmlformats.org/officeDocument/2006/relationships/audio" Target="../media/cashreg.wav"/><Relationship Id="rId33" Type="http://schemas.openxmlformats.org/officeDocument/2006/relationships/audio" Target="../media/cashreg.wav"/><Relationship Id="rId34" Type="http://schemas.openxmlformats.org/officeDocument/2006/relationships/audio" Target="../media/cashreg.wav"/><Relationship Id="rId35" Type="http://schemas.openxmlformats.org/officeDocument/2006/relationships/audio" Target="../media/cashreg.wav"/><Relationship Id="rId36" Type="http://schemas.openxmlformats.org/officeDocument/2006/relationships/audio" Target="../media/gunshot.wav"/><Relationship Id="rId37" Type="http://schemas.openxmlformats.org/officeDocument/2006/relationships/audio" Target="../media/ricochet.wav"/><Relationship Id="rId38" Type="http://schemas.openxmlformats.org/officeDocument/2006/relationships/audio" Target="../media/gunshot.wav"/><Relationship Id="rId39" Type="http://schemas.openxmlformats.org/officeDocument/2006/relationships/audio" Target="../media/ricochet.wav"/><Relationship Id="rId40" Type="http://schemas.openxmlformats.org/officeDocument/2006/relationships/audio" Target="../media/laser.wav"/><Relationship Id="rId41" Type="http://schemas.openxmlformats.org/officeDocument/2006/relationships/audio" Target="../media/laser.wav"/><Relationship Id="rId42" Type="http://schemas.openxmlformats.org/officeDocument/2006/relationships/audio" Target="../media/laser.wav"/><Relationship Id="rId43" Type="http://schemas.openxmlformats.org/officeDocument/2006/relationships/audio" Target="../media/carbrake.wav"/><Relationship Id="rId4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image" Target="../media/image46.wmf"/><Relationship Id="rId7" Type="http://schemas.openxmlformats.org/officeDocument/2006/relationships/image" Target="../media/image43.wmf"/><Relationship Id="rId8" Type="http://schemas.openxmlformats.org/officeDocument/2006/relationships/image" Target="../media/image19.wmf"/><Relationship Id="rId9" Type="http://schemas.openxmlformats.org/officeDocument/2006/relationships/image" Target="../media/image47.wmf"/><Relationship Id="rId10" Type="http://schemas.openxmlformats.org/officeDocument/2006/relationships/image" Target="../media/image46.wmf"/><Relationship Id="rId11" Type="http://schemas.openxmlformats.org/officeDocument/2006/relationships/image" Target="../media/image46.wmf"/><Relationship Id="rId12" Type="http://schemas.openxmlformats.org/officeDocument/2006/relationships/image" Target="../media/image43.wmf"/><Relationship Id="rId13" Type="http://schemas.openxmlformats.org/officeDocument/2006/relationships/image" Target="../media/image19.wmf"/><Relationship Id="rId14" Type="http://schemas.openxmlformats.org/officeDocument/2006/relationships/image" Target="../media/image48.wmf"/><Relationship Id="rId15" Type="http://schemas.openxmlformats.org/officeDocument/2006/relationships/audio" Target="../media/chimes.wav"/><Relationship Id="rId16" Type="http://schemas.openxmlformats.org/officeDocument/2006/relationships/audio" Target="../media/hzipup01.wav"/><Relationship Id="rId17" Type="http://schemas.openxmlformats.org/officeDocument/2006/relationships/audio" Target="../media/cashreg.wav"/><Relationship Id="rId18" Type="http://schemas.openxmlformats.org/officeDocument/2006/relationships/audio" Target="../media/cashreg.wav"/><Relationship Id="rId19" Type="http://schemas.openxmlformats.org/officeDocument/2006/relationships/audio" Target="../media/cashreg.wav"/><Relationship Id="rId20" Type="http://schemas.openxmlformats.org/officeDocument/2006/relationships/audio" Target="../media/cashreg.wav"/><Relationship Id="rId21" Type="http://schemas.openxmlformats.org/officeDocument/2006/relationships/audio" Target="../media/gunshot.wav"/><Relationship Id="rId22" Type="http://schemas.openxmlformats.org/officeDocument/2006/relationships/audio" Target="../media/ricochet.wav"/><Relationship Id="rId23" Type="http://schemas.openxmlformats.org/officeDocument/2006/relationships/audio" Target="../media/gunshot.wav"/><Relationship Id="rId24" Type="http://schemas.openxmlformats.org/officeDocument/2006/relationships/audio" Target="../media/ricochet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carbrake.wav"/><Relationship Id="rId2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Inequalities Using More Than One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2193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inequ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62120" y="1752480"/>
          <a:ext cx="3956040" cy="6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395604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2362320" y="2362320"/>
          <a:ext cx="94752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2362320"/>
                    <a:ext cx="9475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3809880" y="2362320"/>
          <a:ext cx="947880" cy="66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2362320"/>
                    <a:ext cx="9478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447920" y="3048120"/>
            <a:ext cx="327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514600" y="3048120"/>
          <a:ext cx="835200" cy="66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14600" y="3048120"/>
                    <a:ext cx="8352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276720" y="3048120"/>
          <a:ext cx="556920" cy="612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76720" y="3048120"/>
                    <a:ext cx="5569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886200" y="3048120"/>
          <a:ext cx="50148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86200" y="3048120"/>
                    <a:ext cx="5014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590920" y="3657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33920" y="3657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743200" y="3657600"/>
          <a:ext cx="50148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43200" y="3657600"/>
                    <a:ext cx="5014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886200" y="3657600"/>
          <a:ext cx="501480" cy="668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86200" y="3657600"/>
                    <a:ext cx="5014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2639880" y="4398840"/>
          <a:ext cx="557280" cy="557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639880" y="4398840"/>
                    <a:ext cx="5572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3276720" y="4390920"/>
          <a:ext cx="556920" cy="614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276720" y="4390920"/>
                    <a:ext cx="55692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3809880" y="4343400"/>
          <a:ext cx="446040" cy="669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809880" y="4343400"/>
                    <a:ext cx="44604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" name=""/>
          <p:cNvGrpSpPr/>
          <p:nvPr/>
        </p:nvGrpSpPr>
        <p:grpSpPr>
          <a:xfrm>
            <a:off x="990720" y="5257800"/>
            <a:ext cx="5105160" cy="459720"/>
            <a:chOff x="990720" y="5257800"/>
            <a:chExt cx="5105160" cy="459720"/>
          </a:xfrm>
        </p:grpSpPr>
        <p:sp>
          <p:nvSpPr>
            <p:cNvPr id="70" name=""/>
            <p:cNvSpPr/>
            <p:nvPr/>
          </p:nvSpPr>
          <p:spPr>
            <a:xfrm>
              <a:off x="990720" y="5486400"/>
              <a:ext cx="510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43000" y="525780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914400" y="55627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3    -2     -1      0       1      2     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5334120"/>
            <a:ext cx="304920" cy="30456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43400" y="5486400"/>
            <a:ext cx="175248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Inequalities Using More Than One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2193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inequ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33520" y="1752480"/>
          <a:ext cx="4178160" cy="6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417816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2514600" y="2362320"/>
          <a:ext cx="94788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2362320"/>
                    <a:ext cx="9478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3809880" y="2362320"/>
          <a:ext cx="947880" cy="66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2362320"/>
                    <a:ext cx="9478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1447920" y="3048120"/>
            <a:ext cx="327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286000" y="3048120"/>
          <a:ext cx="1001880" cy="66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3048120"/>
                    <a:ext cx="10018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3276720" y="3021120"/>
          <a:ext cx="55692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76720" y="3021120"/>
                    <a:ext cx="5569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809880" y="3048120"/>
          <a:ext cx="83664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9880" y="3048120"/>
                    <a:ext cx="836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444760" y="3657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59200" y="3657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570040" y="3657600"/>
          <a:ext cx="55728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70040" y="36576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935520" y="3657600"/>
          <a:ext cx="557280" cy="668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935520" y="36576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584440" y="4398840"/>
          <a:ext cx="668520" cy="557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584440" y="4398840"/>
                    <a:ext cx="6685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276720" y="4362480"/>
          <a:ext cx="556920" cy="671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276720" y="4362480"/>
                    <a:ext cx="55692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809880" y="4343400"/>
          <a:ext cx="557280" cy="669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809880" y="4343400"/>
                    <a:ext cx="557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" name=""/>
          <p:cNvGrpSpPr/>
          <p:nvPr/>
        </p:nvGrpSpPr>
        <p:grpSpPr>
          <a:xfrm>
            <a:off x="990720" y="5257800"/>
            <a:ext cx="5105160" cy="459720"/>
            <a:chOff x="990720" y="5257800"/>
            <a:chExt cx="5105160" cy="459720"/>
          </a:xfrm>
        </p:grpSpPr>
        <p:sp>
          <p:nvSpPr>
            <p:cNvPr id="104" name=""/>
            <p:cNvSpPr/>
            <p:nvPr/>
          </p:nvSpPr>
          <p:spPr>
            <a:xfrm>
              <a:off x="990720" y="5486400"/>
              <a:ext cx="510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43000" y="525780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914400" y="55627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3    -2     -1      0       1      2     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24280" y="5334120"/>
            <a:ext cx="304920" cy="304560"/>
          </a:xfrm>
          <a:prstGeom prst="ellipse">
            <a:avLst/>
          </a:prstGeom>
          <a:solidFill>
            <a:srgbClr val="3333cc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990360" y="5486400"/>
            <a:ext cx="373356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Inequalities Using More Than One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2193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inequ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17400" y="1670040"/>
          <a:ext cx="401004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670040"/>
                    <a:ext cx="401004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066680" y="2362320"/>
          <a:ext cx="122724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2362320"/>
                    <a:ext cx="12272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429000" y="2362320"/>
          <a:ext cx="1225440" cy="66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2362320"/>
                    <a:ext cx="12254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447920" y="2971800"/>
            <a:ext cx="327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313000" y="2965320"/>
          <a:ext cx="946080" cy="835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13000" y="2965320"/>
                    <a:ext cx="94608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3276720" y="3021120"/>
          <a:ext cx="55692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76720" y="3021120"/>
                    <a:ext cx="5569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754440" y="3048120"/>
          <a:ext cx="94788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54440" y="3048120"/>
                    <a:ext cx="9478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2444760" y="3657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59200" y="3657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570040" y="3657600"/>
          <a:ext cx="55728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70040" y="36576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3935520" y="3657600"/>
          <a:ext cx="557280" cy="668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935520" y="36576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666880" y="4419720"/>
          <a:ext cx="557280" cy="725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666880" y="4419720"/>
                    <a:ext cx="55728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276720" y="4362480"/>
          <a:ext cx="556920" cy="671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276720" y="4362480"/>
                    <a:ext cx="55692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3733920" y="4343400"/>
          <a:ext cx="836640" cy="669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733920" y="4343400"/>
                    <a:ext cx="83664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990720" y="5257800"/>
            <a:ext cx="5105160" cy="459720"/>
            <a:chOff x="990720" y="5257800"/>
            <a:chExt cx="5105160" cy="459720"/>
          </a:xfrm>
        </p:grpSpPr>
        <p:sp>
          <p:nvSpPr>
            <p:cNvPr id="138" name=""/>
            <p:cNvSpPr/>
            <p:nvPr/>
          </p:nvSpPr>
          <p:spPr>
            <a:xfrm>
              <a:off x="990720" y="5486400"/>
              <a:ext cx="510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43000" y="525780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914400" y="55627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3    -2     -1      0       1      2     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5334120"/>
            <a:ext cx="304920" cy="304560"/>
          </a:xfrm>
          <a:prstGeom prst="ellipse">
            <a:avLst/>
          </a:prstGeom>
          <a:solidFill>
            <a:srgbClr val="3333cc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3200" y="5486400"/>
            <a:ext cx="335268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plying or Dividing by a Negativ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2193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inequ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762120" y="1752480"/>
          <a:ext cx="328608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32860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300400" y="2362320"/>
          <a:ext cx="89352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00400" y="2362320"/>
                    <a:ext cx="8935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1219320" y="2362320"/>
          <a:ext cx="890640" cy="66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236232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1447920" y="2971800"/>
            <a:ext cx="327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523880" y="3048120"/>
          <a:ext cx="501840" cy="66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3048120"/>
                    <a:ext cx="5018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133720" y="3048120"/>
          <a:ext cx="556920" cy="612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33720" y="3048120"/>
                    <a:ext cx="5569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2611440" y="3103560"/>
          <a:ext cx="947880" cy="557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11440" y="3103560"/>
                    <a:ext cx="9478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2679840" y="3657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57200" y="3657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666880" y="3657600"/>
          <a:ext cx="83520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666880" y="3657600"/>
                    <a:ext cx="8352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1295280" y="3657600"/>
          <a:ext cx="835200" cy="668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5280" y="3657600"/>
                    <a:ext cx="8352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1295280" y="4343400"/>
          <a:ext cx="892440" cy="669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95280" y="4343400"/>
                    <a:ext cx="89244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2133720" y="4389480"/>
          <a:ext cx="556920" cy="615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133720" y="4389480"/>
                    <a:ext cx="5569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2730600" y="4398840"/>
          <a:ext cx="557280" cy="559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730600" y="4398840"/>
                    <a:ext cx="55728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838080" y="5791320"/>
            <a:ext cx="5105160" cy="459720"/>
            <a:chOff x="838080" y="5791320"/>
            <a:chExt cx="5105160" cy="459720"/>
          </a:xfrm>
        </p:grpSpPr>
        <p:sp>
          <p:nvSpPr>
            <p:cNvPr id="172" name=""/>
            <p:cNvSpPr/>
            <p:nvPr/>
          </p:nvSpPr>
          <p:spPr>
            <a:xfrm>
              <a:off x="838080" y="6019920"/>
              <a:ext cx="510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90360" y="579132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762120" y="609588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5    -4     -3     -2      -1     0     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5867280"/>
            <a:ext cx="304560" cy="30492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66880" y="6019920"/>
            <a:ext cx="335304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523880" y="4952880"/>
          <a:ext cx="1895760" cy="669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523880" y="4952880"/>
                    <a:ext cx="189576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plying or Dividing by a Negativ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12193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inequ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80880" y="1752480"/>
          <a:ext cx="501336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52480"/>
                    <a:ext cx="501336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2743200" y="2286000"/>
          <a:ext cx="94932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286000"/>
                    <a:ext cx="9493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4468680" y="2286000"/>
          <a:ext cx="946440" cy="66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68680" y="2286000"/>
                    <a:ext cx="9464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1447920" y="2971800"/>
            <a:ext cx="3809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514600" y="2971800"/>
          <a:ext cx="1282680" cy="66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14600" y="2971800"/>
                    <a:ext cx="12826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3733920" y="3021120"/>
          <a:ext cx="55692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33920" y="3021120"/>
                    <a:ext cx="5569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4191120" y="2971800"/>
          <a:ext cx="128088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91120" y="2971800"/>
                    <a:ext cx="12808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2743200" y="3657600"/>
            <a:ext cx="977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43400" y="3657600"/>
            <a:ext cx="900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687760" y="3657600"/>
          <a:ext cx="94752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687760" y="3657600"/>
                    <a:ext cx="9475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440240" y="3657600"/>
          <a:ext cx="946080" cy="668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440240" y="3657600"/>
                    <a:ext cx="9460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3062160" y="4398840"/>
          <a:ext cx="557280" cy="559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062160" y="4398840"/>
                    <a:ext cx="55728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3733920" y="4361040"/>
          <a:ext cx="556920" cy="672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733920" y="4361040"/>
                    <a:ext cx="55692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357800" y="4343400"/>
          <a:ext cx="501480" cy="6714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357800" y="4343400"/>
                    <a:ext cx="50148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7" name=""/>
          <p:cNvGrpSpPr/>
          <p:nvPr/>
        </p:nvGrpSpPr>
        <p:grpSpPr>
          <a:xfrm>
            <a:off x="1143000" y="5334120"/>
            <a:ext cx="5105160" cy="459720"/>
            <a:chOff x="1143000" y="5334120"/>
            <a:chExt cx="5105160" cy="459720"/>
          </a:xfrm>
        </p:grpSpPr>
        <p:sp>
          <p:nvSpPr>
            <p:cNvPr id="208" name=""/>
            <p:cNvSpPr/>
            <p:nvPr/>
          </p:nvSpPr>
          <p:spPr>
            <a:xfrm>
              <a:off x="1143000" y="5562720"/>
              <a:ext cx="510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95280" y="533412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066680" y="563868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    2      3       4       5     6     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5410080"/>
            <a:ext cx="304560" cy="304920"/>
          </a:xfrm>
          <a:prstGeom prst="ellipse">
            <a:avLst/>
          </a:prstGeom>
          <a:solidFill>
            <a:srgbClr val="3333cc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05520" y="5562720"/>
            <a:ext cx="11430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plying or Dividing by a Negativ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12193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inequ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914400" y="1371600"/>
          <a:ext cx="4065480" cy="17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4065480" cy="17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3151080" y="2743200"/>
          <a:ext cx="89388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51080" y="2743200"/>
                    <a:ext cx="8938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4191120" y="2743200"/>
          <a:ext cx="890640" cy="66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27432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1738440" y="3449520"/>
            <a:ext cx="3809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819520" y="3200400"/>
          <a:ext cx="1171440" cy="1722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19520" y="3200400"/>
                    <a:ext cx="1171440" cy="17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3886200" y="3733920"/>
          <a:ext cx="55728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6200" y="373392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4343400" y="3733920"/>
          <a:ext cx="89064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43400" y="373392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806480" y="3538440"/>
          <a:ext cx="1449360" cy="1059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06480" y="3538440"/>
                    <a:ext cx="1449360" cy="10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4648320" y="3505320"/>
          <a:ext cx="1670040" cy="1058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648320" y="3505320"/>
                    <a:ext cx="167004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3352680" y="4952880"/>
          <a:ext cx="557280" cy="725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352680" y="4952880"/>
                    <a:ext cx="557280" cy="7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3886200" y="4800600"/>
          <a:ext cx="557280" cy="673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886200" y="4800600"/>
                    <a:ext cx="55728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4648320" y="4821120"/>
          <a:ext cx="501480" cy="671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648320" y="4821120"/>
                    <a:ext cx="50148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9" name=""/>
          <p:cNvGrpSpPr/>
          <p:nvPr/>
        </p:nvGrpSpPr>
        <p:grpSpPr>
          <a:xfrm>
            <a:off x="1295280" y="5715000"/>
            <a:ext cx="5105160" cy="459720"/>
            <a:chOff x="1295280" y="5715000"/>
            <a:chExt cx="5105160" cy="459720"/>
          </a:xfrm>
        </p:grpSpPr>
        <p:sp>
          <p:nvSpPr>
            <p:cNvPr id="240" name=""/>
            <p:cNvSpPr/>
            <p:nvPr/>
          </p:nvSpPr>
          <p:spPr>
            <a:xfrm>
              <a:off x="1295280" y="5943600"/>
              <a:ext cx="510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47560" y="571500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219320" y="60199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    2      3       4       5     6     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29200" y="5791320"/>
            <a:ext cx="304920" cy="304560"/>
          </a:xfrm>
          <a:prstGeom prst="ellipse">
            <a:avLst/>
          </a:prstGeom>
          <a:solidFill>
            <a:srgbClr val="3333cc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218960" y="5929200"/>
            <a:ext cx="380988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562720" y="3754440"/>
            <a:ext cx="3581280" cy="31035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ing and Using a Linear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121932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7. You wash dishes in a restaurant and ear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4.60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per hour. How many hours must you work to make at leas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200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to buy a new snowbo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685800" y="3886200"/>
          <a:ext cx="1336680" cy="66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86200"/>
                    <a:ext cx="13366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3200400" y="2971800"/>
          <a:ext cx="473040" cy="525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00400" y="2971800"/>
                    <a:ext cx="47304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0" y="266688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Verb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52480" y="2666880"/>
            <a:ext cx="1447920" cy="1068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Hourly W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2666880"/>
            <a:ext cx="2819520" cy="1068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Number of Hours Wor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431040" y="2881440"/>
          <a:ext cx="620640" cy="731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431040" y="2881440"/>
                    <a:ext cx="62064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7086600" y="2666880"/>
            <a:ext cx="1676520" cy="1068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Desired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828800" y="3809880"/>
          <a:ext cx="557280" cy="722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828800" y="3809880"/>
                    <a:ext cx="5572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2362320" y="3886200"/>
          <a:ext cx="556920" cy="666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362320" y="3886200"/>
                    <a:ext cx="5569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2819520" y="3886200"/>
          <a:ext cx="1170000" cy="666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819520" y="3886200"/>
                    <a:ext cx="11700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1204920" y="4572000"/>
            <a:ext cx="977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957400" y="4572000"/>
            <a:ext cx="90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954000" y="4572000"/>
          <a:ext cx="1338480" cy="668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954000" y="4572000"/>
                    <a:ext cx="13384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2819520" y="4572000"/>
          <a:ext cx="1334880" cy="6681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819520" y="4572000"/>
                    <a:ext cx="13348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1523880" y="5229360"/>
          <a:ext cx="557280" cy="7268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523880" y="5229360"/>
                    <a:ext cx="55728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2195640" y="5275440"/>
          <a:ext cx="556920" cy="6728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195640" y="5275440"/>
                    <a:ext cx="55692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2666880" y="5257800"/>
          <a:ext cx="1227240" cy="6714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666880" y="5257800"/>
                    <a:ext cx="12272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0" y="5867280"/>
            <a:ext cx="55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You need to work at least 44 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5562720" y="3754440"/>
            <a:ext cx="3581280" cy="31035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ing and Using a Linear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121932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8. You wash dishes in a restaurant and ear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5.15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per hour. How many hours must you work to make at leas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240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to buy a new snowbo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0" y="2666880"/>
            <a:ext cx="8763120" cy="1068840"/>
            <a:chOff x="0" y="2666880"/>
            <a:chExt cx="8763120" cy="1068840"/>
          </a:xfrm>
        </p:grpSpPr>
        <p:graphicFrame>
          <p:nvGraphicFramePr>
            <p:cNvPr id="283" name=""/>
            <p:cNvGraphicFramePr/>
            <p:nvPr/>
          </p:nvGraphicFramePr>
          <p:xfrm>
            <a:off x="3200400" y="2971800"/>
            <a:ext cx="473040" cy="525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00400" y="2971800"/>
                      <a:ext cx="473040" cy="52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5" name=""/>
            <p:cNvSpPr/>
            <p:nvPr/>
          </p:nvSpPr>
          <p:spPr>
            <a:xfrm>
              <a:off x="0" y="2666880"/>
              <a:ext cx="1523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Times New Roman"/>
                </a:rPr>
                <a:t>Verbal Mode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752480" y="2666880"/>
              <a:ext cx="1447920" cy="10688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00"/>
                  </a:solidFill>
                  <a:latin typeface="Times New Roman"/>
                </a:rPr>
                <a:t>Hourly Wag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581280" y="2666880"/>
              <a:ext cx="2819520" cy="10688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00"/>
                  </a:solidFill>
                  <a:latin typeface="Times New Roman"/>
                </a:rPr>
                <a:t>Number of Hours Worke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8" name=""/>
            <p:cNvGraphicFramePr/>
            <p:nvPr/>
          </p:nvGraphicFramePr>
          <p:xfrm>
            <a:off x="6431040" y="2881440"/>
            <a:ext cx="620640" cy="731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31040" y="2881440"/>
                      <a:ext cx="620640" cy="73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0" name=""/>
            <p:cNvSpPr/>
            <p:nvPr/>
          </p:nvSpPr>
          <p:spPr>
            <a:xfrm>
              <a:off x="7086600" y="2666880"/>
              <a:ext cx="1676520" cy="10688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00"/>
                  </a:solidFill>
                  <a:latin typeface="Times New Roman"/>
                </a:rPr>
                <a:t>Desired Incom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1" name="" descr=""/>
          <p:cNvPicPr/>
          <p:nvPr/>
        </p:nvPicPr>
        <p:blipFill>
          <a:blip r:embed="rId6"/>
          <a:stretch/>
        </p:blipFill>
        <p:spPr>
          <a:xfrm>
            <a:off x="615960" y="3914640"/>
            <a:ext cx="1170000" cy="6667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7"/>
          <a:stretch/>
        </p:blipFill>
        <p:spPr>
          <a:xfrm>
            <a:off x="1676520" y="3838680"/>
            <a:ext cx="556920" cy="7221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8"/>
          <a:stretch/>
        </p:blipFill>
        <p:spPr>
          <a:xfrm>
            <a:off x="2209680" y="3914640"/>
            <a:ext cx="557280" cy="6667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9"/>
          <a:stretch/>
        </p:blipFill>
        <p:spPr>
          <a:xfrm>
            <a:off x="2666880" y="3886200"/>
            <a:ext cx="1170000" cy="6667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052640" y="4600440"/>
            <a:ext cx="977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05120" y="4600440"/>
            <a:ext cx="900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0"/>
          <a:stretch/>
        </p:blipFill>
        <p:spPr>
          <a:xfrm>
            <a:off x="884160" y="4600440"/>
            <a:ext cx="1171800" cy="6685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11"/>
          <a:stretch/>
        </p:blipFill>
        <p:spPr>
          <a:xfrm>
            <a:off x="2749680" y="4600440"/>
            <a:ext cx="1168200" cy="6685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2"/>
          <a:stretch/>
        </p:blipFill>
        <p:spPr>
          <a:xfrm>
            <a:off x="1371600" y="5257800"/>
            <a:ext cx="557280" cy="7272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3"/>
          <a:stretch/>
        </p:blipFill>
        <p:spPr>
          <a:xfrm>
            <a:off x="2043000" y="5303880"/>
            <a:ext cx="557280" cy="6732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4"/>
          <a:stretch/>
        </p:blipFill>
        <p:spPr>
          <a:xfrm>
            <a:off x="2514600" y="5257800"/>
            <a:ext cx="1281240" cy="6714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0" y="579132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You need to work at least 47 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22:36:43Z</dcterms:created>
  <dc:creator>Teacher</dc:creator>
  <dc:description/>
  <dc:language>en-US</dc:language>
  <cp:lastModifiedBy>damon.skelton</cp:lastModifiedBy>
  <dcterms:modified xsi:type="dcterms:W3CDTF">2003-11-03T13:38:49Z</dcterms:modified>
  <cp:revision>21</cp:revision>
  <dc:subject/>
  <dc:title>PowerPoint Presentation</dc:title>
</cp:coreProperties>
</file>